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DE9-501E-4C08-9F09-8B3771FE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3A1-3950-431E-A0FA-4A55BE05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922-4CF4-4498-AA69-D729E5DC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95C-AFE6-4358-9A83-B9D20F39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7BB-DACF-43BE-A522-A2C44CE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042-CC4B-4ABC-A75A-88C3596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40C-1C0F-4166-882A-36DA656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CA6-FDAC-4E93-833A-7A1EEDB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F7E-3A42-4344-9551-60A61449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F0E-9230-4C8D-AE27-D5F23DB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0A8-FD21-4E0C-8B0C-8C7CFD4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856-AB84-4C9A-8F3F-ADFBE6D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2678" t="21613" r="17451" b="34886"/>
          <a:stretch/>
        </p:blipFill>
        <p:spPr>
          <a:xfrm>
            <a:off x="6985080" y="5877000"/>
            <a:ext cx="1908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92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856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72720" y="6367320"/>
            <a:ext cx="21337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974520" y="6165360"/>
            <a:ext cx="59022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354560" y="6381720"/>
            <a:ext cx="504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 </a:t>
            </a:r>
            <a:fld id="{D14CA3BD-6BBB-4A2F-92C1-39A945C00948}" type="slidenum"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38920" y="5661000"/>
            <a:ext cx="24494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3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1696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976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2184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11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804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14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840" y="32000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840" y="362700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840" y="405396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840" y="4481640"/>
            <a:ext cx="9128160" cy="167616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840" y="49082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60" y="44280"/>
            <a:ext cx="2322720" cy="30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914400" indent="32400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1371600" indent="438120" algn="ctr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1828800" indent="64764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adaster.nl/imkad" TargetMode="External"/><Relationship Id="rId2" Type="http://schemas.openxmlformats.org/officeDocument/2006/relationships/hyperlink" Target="http://www.kadaster.nl/brklevering" TargetMode="External"/><Relationship Id="rId3" Type="http://schemas.openxmlformats.org/officeDocument/2006/relationships/hyperlink" Target="mailto:Mickel.langeveld@kadaster.n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a9"/>
                </a:solidFill>
                <a:latin typeface="Arial"/>
              </a:rPr>
              <a:t>StUF Expertgroep King</a:t>
            </a:r>
            <a:endParaRPr b="0" lang="en-US" sz="28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02080" y="2971800"/>
            <a:ext cx="614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7d"/>
                </a:solidFill>
                <a:latin typeface="Arial"/>
              </a:rPr>
              <a:t>BRK Levering en IMKAD</a:t>
            </a:r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2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oestandsdatum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Kadastraal objec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Percelen, Appartementsrecht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Zakelijk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dom, Erfpacht, etc.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sgebonden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enaamstelling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Aantekening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WKPb, Erfdienstbaarheid, etc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aar, VVE, Belemmeraa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uk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Kadasterstuk; Aangebodenstuk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3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model (Waarmee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653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05672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4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BRK Levering (Wa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677880"/>
            <a:ext cx="7488360" cy="629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5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IMKAD (Contex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entrale as IMKAD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640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Kadastrale Objec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2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Zakelijk rech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6368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Tenaamstelling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281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Praktische zak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12 en 13 maart Klantbijeenkomsten BRK Levering met op dit moment 160 aanmelding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1"/>
              </a:rPr>
              <a:t>www.kadaster.nl/imkad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2"/>
              </a:rPr>
              <a:t>www.kadaster.nl/brk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3"/>
              </a:rPr>
              <a:t>Mickel.langeveld@kadaster.n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592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istorisch perspectief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Leveren informatie uit BRK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arom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t product oud versus nieuw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erschi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oorbeeld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ructuren en mode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Historisch (en toekomstig) perspectief 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2924280"/>
            <a:ext cx="8244000" cy="936000"/>
            <a:chOff x="900000" y="2924280"/>
            <a:chExt cx="8244000" cy="936000"/>
          </a:xfrm>
        </p:grpSpPr>
        <p:sp>
          <p:nvSpPr>
            <p:cNvPr id="107" name=""/>
            <p:cNvSpPr/>
            <p:nvPr/>
          </p:nvSpPr>
          <p:spPr>
            <a:xfrm>
              <a:off x="971640" y="3715920"/>
              <a:ext cx="7848360" cy="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2000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164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292428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1985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472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0908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16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68360" y="1411200"/>
            <a:ext cx="1511280" cy="863640"/>
          </a:xfrm>
          <a:prstGeom prst="cloudCallout">
            <a:avLst>
              <a:gd name="adj1" fmla="val -48111"/>
              <a:gd name="adj2" fmla="val 202388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ntstaan AKR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266840"/>
            <a:ext cx="1800360" cy="1152360"/>
          </a:xfrm>
          <a:prstGeom prst="cloudCallout">
            <a:avLst>
              <a:gd name="adj1" fmla="val 51236"/>
              <a:gd name="adj2" fmla="val 151930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Vervanging MO (2004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700280"/>
            <a:ext cx="1800360" cy="1152360"/>
          </a:xfrm>
          <a:prstGeom prst="cloudCallout">
            <a:avLst>
              <a:gd name="adj1" fmla="val 53087"/>
              <a:gd name="adj2" fmla="val 11418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Alternatief MO (2010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843200"/>
            <a:ext cx="2016360" cy="1152360"/>
          </a:xfrm>
          <a:prstGeom prst="cloudCallout">
            <a:avLst>
              <a:gd name="adj1" fmla="val -98425"/>
              <a:gd name="adj2" fmla="val 102893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MO papier, later tape/diskett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266840"/>
            <a:ext cx="1800000" cy="1152360"/>
          </a:xfrm>
          <a:prstGeom prst="cloudCallout">
            <a:avLst>
              <a:gd name="adj1" fmla="val 8907"/>
              <a:gd name="adj2" fmla="val 153305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Uitfasering MO (2015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36000" y="2274840"/>
            <a:ext cx="1008000" cy="432000"/>
          </a:xfrm>
          <a:prstGeom prst="cloudCallout">
            <a:avLst>
              <a:gd name="adj1" fmla="val -40078"/>
              <a:gd name="adj2" fmla="val 252574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AKR?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4149720"/>
            <a:ext cx="1944720" cy="1152360"/>
          </a:xfrm>
          <a:prstGeom prst="cloudCallout">
            <a:avLst>
              <a:gd name="adj1" fmla="val 177999"/>
              <a:gd name="adj2" fmla="val -76444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verleg betrokkenen (2006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5157720"/>
            <a:ext cx="1944720" cy="1152720"/>
          </a:xfrm>
          <a:prstGeom prst="cloudCallout">
            <a:avLst>
              <a:gd name="adj1" fmla="val 126407"/>
              <a:gd name="adj2" fmla="val -163222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Start project tbv MIV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(2008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579920"/>
            <a:ext cx="2016000" cy="1152720"/>
          </a:xfrm>
          <a:prstGeom prst="cloudCallout">
            <a:avLst>
              <a:gd name="adj1" fmla="val 43856"/>
              <a:gd name="adj2" fmla="val -114736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Temporisati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09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4867200"/>
            <a:ext cx="2340000" cy="1152720"/>
          </a:xfrm>
          <a:prstGeom prst="cloudCallout">
            <a:avLst>
              <a:gd name="adj1" fmla="val -23675"/>
              <a:gd name="adj2" fmla="val -13980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Realisatie BRK Levering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13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258480"/>
            <a:ext cx="7867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en informatie uit Basis Registratie Kadaste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Ontsluiten van Kadaster gegeven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 gebaseerd (BRK Levering) (ook voor replic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irect actueel (Kik Inzag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 actueel (Mijn Kadaster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overheidsstandaar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ormaat (Nen 3610, GML 3.1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formatiemodellen (IMRO, IMWA, IMBAG, IMK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0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Koppelbaarheid en uitwisseling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gebaseerde abonnemen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toekomstige situatie Kadaste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Uitfasering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Realisatie van KOBRA (Kadastrale Objecten en Rechten Administr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Verschill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4880" y="1125360"/>
            <a:ext cx="384804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gingen over period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aand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ixed record siz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Cd en downloa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7280" y="1125360"/>
            <a:ext cx="4537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Nieuwe aanpak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ngen via gebeurteniss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rich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ag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 en Geografisch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IMKAD 2.01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structureerde GML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services (en downlo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Overeenkomst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bonnement op stand (geheel) en mutaties (wijzigingen); Losse 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meente, (Gebieds en Persoons) gebonden lever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utaties: zowel oude als nieuwe situatie wordt gelever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houd van gegevens is in hoofdlijn hetzelfde al kunnen er op details verschillen zijn.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Persoonsgegevens (GBA) en Adresgegevens (BAG conform) worden meegeleverd (geen gebeurtenissen doorgelever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AG pas na koppeling BRK-BAG in de data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datalevering structuu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413000"/>
            <a:ext cx="777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0 B29GV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1 M 201012312010113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05O4  5930800091   6115612904201012240014  5907900017   201011080000000{ 0000 00000000000000                                        N0000610003869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KWD000000006100143918J4  5877300118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69240017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35O4  5930800091   611561290420101224001AAR00A 06143D002800000000D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2637000"/>
            <a:ext cx="792360" cy="863280"/>
          </a:xfrm>
          <a:prstGeom prst="downArrow">
            <a:avLst>
              <a:gd name="adj1" fmla="val 50000"/>
              <a:gd name="adj2" fmla="val 27238"/>
            </a:avLst>
          </a:prstGeom>
          <a:solidFill>
            <a:srgbClr val="008dc9"/>
          </a:solidFill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2512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Geo Informatie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619280"/>
            <a:ext cx="7705800" cy="361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19280" y="1557360"/>
            <a:ext cx="792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1916280"/>
            <a:ext cx="1224000" cy="28872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565360"/>
            <a:ext cx="576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3645000"/>
            <a:ext cx="3166920" cy="1439640"/>
          </a:xfrm>
          <a:prstGeom prst="ellipse">
            <a:avLst/>
          </a:prstGeom>
          <a:noFill/>
          <a:ln w="57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1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RK-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ader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datum, object, stuk, stukdelen, volgn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Mutatie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and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burgerlijke gemeente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N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4:45Z</dcterms:created>
  <dc:creator>langem</dc:creator>
  <dc:description/>
  <dc:language>en-US</dc:language>
  <cp:lastModifiedBy>langem</cp:lastModifiedBy>
  <dcterms:modified xsi:type="dcterms:W3CDTF">2014-02-12T16:02:44Z</dcterms:modified>
  <cp:revision>19</cp:revision>
  <dc:subject/>
  <dc:title>Dia 1</dc:title>
</cp:coreProperties>
</file>